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A10-A65D-4A94-94AF-3BC72B79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5AC-514F-43C3-84A8-98FA4AC8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24AD-C5BD-4C67-B7AF-34066C8F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2FB1-30EC-4DE7-8A69-0F13E0E0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5271-BEF0-4ABA-9448-8CC3D922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BABE-D28B-40D4-B81B-B4AF9422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97D2-58BB-4719-952D-EAA21A81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5200-F0B9-434E-85AE-1CD6AD30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3807-59E1-45EC-B19F-6D0B8A51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93E9-646F-49AE-ACCC-F643B1D7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F2B6-A68A-4494-8D7D-C4124410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E20-6AFB-49D3-B16F-8BBCE78D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7BF5-0FE8-44CA-8D4A-BC7E0F59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A34A-12D2-45C5-97B1-61A3CD58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CF16-7B60-43D5-AE21-BEA8F2FE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09E6-5758-4E87-BC9B-B69A5852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6B27-A4E0-4E96-968D-D07BF98A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25165-C8E6-4290-A57F-8D97A5AF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B20D8-85E3-46E6-82A6-93C7F407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E172D-7E9B-4578-B91B-5C34D934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06E5D-1321-4707-B659-BE123AA1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884BE-570F-445E-9D10-36A6E470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423B-0948-44E1-8E5A-A9F83E9D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D58FC-7C62-4B15-B622-DA72362E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F7523-3385-4B4C-893D-54B3A7CD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49BFB-42B7-44D1-BF62-31E1E707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19775-3BE1-4A96-9EF3-D542731E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0D27A-2C77-4668-A7AF-3810068E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BE306-F234-43F6-8924-060F8F02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671C0-F977-4363-AF51-C43992D4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EA2D5-C07A-410D-AEB9-6FC54D08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7D729-6FEC-491C-9ACB-DC4BFD03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02228-FE71-4715-930E-299BF900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E16-D0C6-4DFC-8514-DA4C701C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4FC33-3B6C-4B46-990D-39FD5FAD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681FF-7E6E-4BC2-927B-083EEAA4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61005-E0A3-4374-A9AC-0A4A121C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66416-5B79-4D1B-B8EE-67C7BD55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2DAC8-9649-4B09-8A4F-3DBF9ED3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6BA47-CC59-42AA-9088-6D1578E6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59AEE-9B0A-496D-9813-E8CC0126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B0798-22A8-444D-BC5E-11B525D8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B6AF9-3927-4E42-91AF-0A2BF0DA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70B0A-B9CB-4853-A707-6943E747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A0F-6408-4D91-8B23-4B7000D2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37B44-19ED-48EE-9155-4B3BA80A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170D0-39C3-49C2-A40A-436D6D35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C8984-2553-42DC-88F3-1D97C25E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30029-F489-418B-91B1-45FDF605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BA3F3-37DD-4002-A800-1644038F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CD33E-9C25-46FD-89C8-DAE776AC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ABBD3-CE1E-4F71-8D40-804AEDC1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1DD58-5E58-42DF-A024-423DC605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E076C-55B2-4A3F-9CC6-127EB9E9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A3E57-E972-4F57-BE18-9A49C21A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F068-AA42-4615-92D8-3584B564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8CA43-9BAD-4594-B742-E667E360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6FF27-B02D-40DE-BCFC-EA3F622E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BDCF1-EA87-4874-93D0-C38D9E79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8BE75-59A1-48FB-AA87-B06A953F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BB26D-6DCC-433F-AD1A-8A8AD3D7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F639B-8970-4C86-8954-D1EDD5C6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419FA-BF82-466C-9442-56184729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B70CA-68BB-47D5-9EE1-D85F3636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6EE58-C6AF-4E9E-A85A-6A5D4BA3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EC3A2-70E7-4664-9084-AD01425B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936-A36A-44BA-B8D1-0A990455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E385D-D9A8-4809-B744-BECEB795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18BA5-12AA-4627-857F-064C021C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9003E-7BDB-4E26-B15B-0118FD2A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36E21-DCD9-4E95-91BE-10099A00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16BD7-5D34-4E1A-8E53-F46F7118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8B05D-A6EA-4CA3-9DD1-0BE7D0C0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33543-3C71-453A-9F73-CD74171A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6AC69-4A5D-41E3-A06F-B16EAAC8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0C530-B7C9-4B0E-89E6-3860D32B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CBBD4-1C1E-44D8-8C19-235ACA83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599-CD69-496D-8432-19B19F31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9CF92-E5C7-402B-A7A6-2410AE73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640EC-2C26-4D3F-8C27-767A24B8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72FF9-0E16-42FC-B4FA-ECC86C9F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0F3CC-9CBB-4C92-B9DE-60A3E1F3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D41CA-3E7A-46B3-A12E-27786800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CA242-3541-4757-96B5-26D250D9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544C0-CF14-48BE-A219-88601A5C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20E52-097E-4E99-AD53-CF61226F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86A98-AEE5-4F80-8D01-4F69054F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80D3D-C6DB-467A-ABA9-CB4468AC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2FC-D28A-4411-AF20-51CDC2BD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B4C27-2212-4444-84CB-691220BE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0660C-03F1-44F5-844C-EB1A916F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56EDA-9FA8-459C-B8F2-778424DA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5E3F6-3264-4043-A0AC-3287FD4D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B0A48-314A-48F5-BD71-CDE16DD1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F94A5-0767-4D39-9E8F-E8AF23F4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BCDE9-07FB-41D4-9F66-94AD6139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4CD1-0936-44F0-A6D1-C444C67A2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6b86"/>
              </a:gs>
              <a:gs pos="100000">
                <a:srgbClr val="7bd1f3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D0AE-6228-4483-BA68-F93095D7D68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8BF7-16F0-429C-A740-61B3C6F84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6b86"/>
              </a:gs>
              <a:gs pos="100000">
                <a:srgbClr val="7bd1f3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7EC3-150C-40D6-B791-5BCD7FCC6D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F874-226C-47C2-BD22-60F5B0BCF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373D-BA35-48C0-BC9C-D84A024A4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1919-EB33-4703-AE2B-DD827BE3C2B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A270-3AEF-4181-BA9E-EA19A1D8DB7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55320" cy="159732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http://www.arrl.org/images/view/News/DemRepCongo_flag.jpg"/>
          <p:cNvPicPr/>
          <p:nvPr/>
        </p:nvPicPr>
        <p:blipFill>
          <a:blip r:embed="rId3"/>
          <a:stretch/>
        </p:blipFill>
        <p:spPr>
          <a:xfrm>
            <a:off x="685800" y="2666880"/>
            <a:ext cx="2736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ationality– Congole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urrent population-- 71,712,867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cation – central Afric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Capital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- Kinshas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in religion– Christia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mate– Equatori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errain– tropical rainforest, mountains, plateaus, and savanna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rea-- 2.345 sq. k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ordering nations-- Angola, Burundi, Central African Republic, Republic of the Congo, Rwanda, Sudan, Tanzania, Uganda, Zambi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152280" y="182880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ype– Republic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dependence from Belgium– June 30, 196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ecutive Branch– President is head of stat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Judicial Branch– Supreme Cour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egislative Branch– 500 member assembl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atural Resources– copper, cobalt, diamonds, gold, other mineral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st of land use– Forest/ Woodland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ports-- $7.5 bill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urrency– Congolese Franc (FC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http://www.geographicguide.net/africa/images/congo-map.gif"/>
          <p:cNvPicPr/>
          <p:nvPr/>
        </p:nvPicPr>
        <p:blipFill>
          <a:blip r:embed="rId2"/>
          <a:stretch/>
        </p:blipFill>
        <p:spPr>
          <a:xfrm>
            <a:off x="2286000" y="1523880"/>
            <a:ext cx="48006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4:44:33Z</dcterms:created>
  <dc:creator>31658</dc:creator>
  <dc:description/>
  <dc:language>en-US</dc:language>
  <cp:lastModifiedBy>WAC</cp:lastModifiedBy>
  <dcterms:modified xsi:type="dcterms:W3CDTF">2011-05-19T17:28:56Z</dcterms:modified>
  <cp:revision>3</cp:revision>
  <dc:subject/>
  <dc:title>The Democratic Republic of Congo</dc:title>
</cp:coreProperties>
</file>